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34C6-FC3F-4892-A96F-7A243AB76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D8C47-3751-4E4F-AEB8-911E7039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7B59-9432-4519-ADD1-D9198A40D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3287-3BB4-42E3-AD0B-CB39A1DA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B4D4-6D4F-48FC-9F1B-C8DA0C846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C488-9266-4832-ABD1-691BCDDD5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0755-12D1-4D9E-8338-F69413F3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3469-4CAD-4BD8-8D19-9B851BC26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D47A-C9F8-443A-8A82-595EA042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CA90-B8BC-4F7A-99A0-3395EA39C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0795-2F74-4BF8-9D7E-502C1997E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9986-566C-4138-8B6F-61555B9E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3C7F-6B5B-4206-BB83-012E20B098F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ytuł 1"/>
          <p:cNvSpPr/>
          <p:nvPr/>
        </p:nvSpPr>
        <p:spPr>
          <a:xfrm>
            <a:off x="2357280" y="1785960"/>
            <a:ext cx="471492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6000" spc="-1" strike="noStrike">
                <a:solidFill>
                  <a:srgbClr val="ffffff"/>
                </a:solidFill>
                <a:latin typeface="Calibri"/>
              </a:rPr>
              <a:t>Urządzenia elektryczn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ole tekstowe 6"/>
          <p:cNvSpPr/>
          <p:nvPr/>
        </p:nvSpPr>
        <p:spPr>
          <a:xfrm>
            <a:off x="2786040" y="528624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00"/>
                </a:solidFill>
                <a:latin typeface="Calibri"/>
              </a:rPr>
              <a:t>przykł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az 2" descr="lodowka.bmp"/>
          <p:cNvPicPr/>
          <p:nvPr/>
        </p:nvPicPr>
        <p:blipFill>
          <a:blip r:embed="rId1"/>
          <a:stretch/>
        </p:blipFill>
        <p:spPr>
          <a:xfrm>
            <a:off x="3484440" y="1000080"/>
            <a:ext cx="217512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Obraz 2" descr="odkurzacz.bmp"/>
          <p:cNvPicPr/>
          <p:nvPr/>
        </p:nvPicPr>
        <p:blipFill>
          <a:blip r:embed="rId1"/>
          <a:stretch/>
        </p:blipFill>
        <p:spPr>
          <a:xfrm>
            <a:off x="2203560" y="1928880"/>
            <a:ext cx="4736880" cy="28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raz 2" descr="żelazko.bmp"/>
          <p:cNvPicPr/>
          <p:nvPr/>
        </p:nvPicPr>
        <p:blipFill>
          <a:blip r:embed="rId1"/>
          <a:stretch/>
        </p:blipFill>
        <p:spPr>
          <a:xfrm>
            <a:off x="2909880" y="1857240"/>
            <a:ext cx="332424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Obraz 2" descr="pralka.bmp"/>
          <p:cNvPicPr/>
          <p:nvPr/>
        </p:nvPicPr>
        <p:blipFill>
          <a:blip r:embed="rId1"/>
          <a:stretch/>
        </p:blipFill>
        <p:spPr>
          <a:xfrm>
            <a:off x="2843280" y="1442880"/>
            <a:ext cx="325584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3T15:53:53Z</dcterms:created>
  <dc:creator>Grazyna</dc:creator>
  <dc:description/>
  <dc:language>en-US</dc:language>
  <cp:lastModifiedBy>Grazyna</cp:lastModifiedBy>
  <dcterms:modified xsi:type="dcterms:W3CDTF">2010-06-19T07:56:54Z</dcterms:modified>
  <cp:revision>13</cp:revision>
  <dc:subject/>
  <dc:title>Slajd 1</dc:title>
</cp:coreProperties>
</file>